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F3D-274A-44DA-8278-57047AE5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A30-BE1C-4DC2-81DC-B4B1D8F8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7E7-C3A0-47FF-97B4-185718D8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A29-9CA6-455F-842B-DF577856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2E5-178B-4055-90BE-A1C2BA83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DC5-73D5-45B9-9491-A9918657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D90-7194-49BB-A2AB-02079CED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3FD-D8D7-487B-80E2-0FC146FE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A84-E717-41E5-99D2-58F110A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D4E-FB6A-4450-B21B-31CA0BF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49D-E58A-4B58-AF0D-74EE3967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9BF-D316-4A8A-9712-FBDD674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4A0F-03AB-4750-BB86-CCFD2E17D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que"/>
              </a:rPr>
              <a:t>T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Il est bon que nous etablions chez nous où que nous soyons heur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Semble-t’il que la vie est plus agréable aprés les souffra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Est-il possible que nous puissions devenir les enfants d’un pays different de le pays de nous orig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On sacrifie tellement de 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Au nom de la pa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On vend les siens,                                 on se tra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Et il y a avec ça toujours une c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qu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asque"/>
              </a:rPr>
              <a:t>Que tout le monde oub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On n'emporte pas la terre quand c'est f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1473120" cy="139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1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Nous devons pardonner les tragédies de nous passés afin que nous soyons cont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Si nous rêve, nous trouverons pa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Si nous étions accueillir, nous aurions la jo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c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asque"/>
              </a:rPr>
              <a:t>Loin des cauchemars de mon pas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asque"/>
              </a:rPr>
              <a:t>Loin de mon enf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asque"/>
              </a:rPr>
              <a:t>Loin des rues en terre des quart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asque"/>
              </a:rPr>
              <a:t>Mon ado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867280" y="3176640"/>
            <a:ext cx="3456000" cy="368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3736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Basque"/>
              </a:rPr>
              <a:t>Loin de mes danses avec la m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Basque"/>
              </a:rPr>
              <a:t>Loin de mes souffr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Basque"/>
              </a:rPr>
              <a:t>Je suis chez moi malgré l'appa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Basque"/>
              </a:rPr>
              <a:t>Car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1964400">
            <a:off x="4267080" y="320004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asque"/>
              </a:rPr>
              <a:t>J'ai retrouvé la joie de vivre, je suis bien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asque"/>
              </a:rPr>
              <a:t>J'ai retrouvé le goût d'aimer, je suis bien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asque"/>
              </a:rPr>
              <a:t>Je me suis fait une vie, une famille, un p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asque"/>
              </a:rPr>
              <a:t>Je suis bien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541008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Basque"/>
              </a:rPr>
              <a:t>Un bout de terre n'a jamais fait chez s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Basque"/>
              </a:rPr>
              <a:t>C'est le temps qui me l'a app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Basque"/>
              </a:rPr>
              <a:t>Quand je regarde, je trouve autour de m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Basque"/>
              </a:rPr>
              <a:t>Un nouveau sens à la pa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J'ai vécu l'enfer sur la t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que"/>
              </a:rPr>
              <a:t>Qu'on appelle mon p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Je vous demande pardon soeurs et frè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Mais comprenez mon c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405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3967200" cy="40100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Basque"/>
              </a:rPr>
              <a:t>J'ai perdu tout ce qui m'est cher dans ce pays m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Basque"/>
              </a:rPr>
              <a:t>C'est la triste histoire de nos 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sque"/>
              </a:rPr>
              <a:t>Oh ! Mais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Basque"/>
              </a:rPr>
              <a:t>Je peux tout faire, je peux rê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94640" y="3581280"/>
            <a:ext cx="2349360" cy="3276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6781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Je suis bien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Je suis pas ingrat, ni lâ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C'est juste que je suis bien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Je suis un nomade, je suis chez moi où on m'a accue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Même dans le froid d'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Il est essentiel que nous oublions la souffrance de le pass</a:t>
            </a:r>
            <a:r>
              <a:rPr b="1" lang="en-US" sz="3200" spc="-1" strike="noStrike">
                <a:solidFill>
                  <a:srgbClr val="ff0000"/>
                </a:solidFill>
                <a:latin typeface="Basque"/>
                <a:ea typeface="Arial"/>
              </a:rPr>
              <a:t>é et avoir plaisir à la v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00:15:26Z</dcterms:created>
  <dc:creator>The Van Woerkom</dc:creator>
  <dc:description/>
  <dc:language>en-US</dc:language>
  <cp:lastModifiedBy>Toni Theisen</cp:lastModifiedBy>
  <dcterms:modified xsi:type="dcterms:W3CDTF">2007-02-10T16:29:40Z</dcterms:modified>
  <cp:revision>6</cp:revision>
  <dc:subject/>
  <dc:title>Terre</dc:title>
</cp:coreProperties>
</file>